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4608D-0F32-4BB8-BE4D-161568D5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55E84-D13C-4552-B304-B78C4E7E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75139-A7EE-48B1-ADF8-905FE8FC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56EB6-D1D5-4FFA-9609-D7C8CB9E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F1CE-E64F-4FA3-BE92-F4E4D4B7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4B0C-DFCA-45F8-84EF-CCED7A0A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F797-8CFB-45DA-A06E-80BA2B2A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09C1-4538-4E18-A5B0-38A3FA46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8DC0-C3F0-4EF6-A451-308D7027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DC90-F91F-44D8-B8C7-E22F0DA7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9BFE-8040-4C35-B208-AC154C94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270AC-76E9-4071-8486-C6E8536D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5054-E511-4937-A50F-8881A7DC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2BD1-0F32-43FB-BB4A-590BA394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0762-3DC4-4D7B-8366-55771300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52F1-BE4F-42D3-925C-598AC793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657C-0782-4121-926E-D3009932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8EE1D-0CC0-4A37-8ED4-E6433D41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812E1-F551-4FA9-BCFC-5F4C54A6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C4E14-152F-460A-B4EE-9DD7B499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30FD7-EFD3-4486-AC09-C383A45D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13271-6D18-4937-B66A-938C290E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1E5B3-37E6-4AC9-BFC9-CC819209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E755A-F339-4C45-AC29-02B195DC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D55C-9DA2-4630-9826-695D06F363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E58C-F57F-42AE-82C2-268CEE046D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hotosynthesis and Cellular Respira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ergy for L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sb1051f1"/>
          <p:cNvPicPr/>
          <p:nvPr/>
        </p:nvPicPr>
        <p:blipFill>
          <a:blip r:embed="rId1"/>
          <a:stretch/>
        </p:blipFill>
        <p:spPr>
          <a:xfrm>
            <a:off x="4876920" y="4114800"/>
            <a:ext cx="3124080" cy="22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igments absorb ligh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addition to water and carbon dioxide, photosynthesis requires light and chlorophyll, a pigment molecule within chloroplas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two main types of chlorophyll are chlorophyll a and chlorophyll b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lorophyll absorbs blue-violet and red light very well. Green light is reflected by plant leaves, which is what gives them their green col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4" descr="pigment"/>
          <p:cNvPicPr/>
          <p:nvPr/>
        </p:nvPicPr>
        <p:blipFill>
          <a:blip r:embed="rId1"/>
          <a:stretch/>
        </p:blipFill>
        <p:spPr>
          <a:xfrm>
            <a:off x="4952880" y="2133720"/>
            <a:ext cx="417672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ight absorption powers photosynthes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lorophyll absorbs blue-violet and red light very well. Green light is reflected by plant leaves, which is what gives them their green col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high-energy electrons produced when chlorophyll absorbs light make photosynthesis wor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4" descr="absorspect"/>
          <p:cNvPicPr/>
          <p:nvPr/>
        </p:nvPicPr>
        <p:blipFill>
          <a:blip r:embed="rId1"/>
          <a:stretch/>
        </p:blipFill>
        <p:spPr>
          <a:xfrm>
            <a:off x="4876920" y="1981080"/>
            <a:ext cx="373860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llular Respi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Picture 4" descr="j0406522"/>
          <p:cNvPicPr/>
          <p:nvPr/>
        </p:nvPicPr>
        <p:blipFill>
          <a:blip r:embed="rId1"/>
          <a:stretch/>
        </p:blipFill>
        <p:spPr>
          <a:xfrm>
            <a:off x="1176480" y="1600200"/>
            <a:ext cx="6791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iving things need energy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r bodies have a lot of work to do every day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ving muscles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ing essential molecules, an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orting substances across cell membra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4" descr="j0384940"/>
          <p:cNvPicPr/>
          <p:nvPr/>
        </p:nvPicPr>
        <p:blipFill>
          <a:blip r:embed="rId1"/>
          <a:stretch/>
        </p:blipFill>
        <p:spPr>
          <a:xfrm>
            <a:off x="4648320" y="2506680"/>
            <a:ext cx="403848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ere do we get energy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od provides the energy living things need to grow and reproduc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od is the source of the material our cells use to build new molecu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4" descr="j0384740"/>
          <p:cNvPicPr/>
          <p:nvPr/>
        </p:nvPicPr>
        <p:blipFill>
          <a:blip r:embed="rId1"/>
          <a:stretch/>
        </p:blipFill>
        <p:spPr>
          <a:xfrm>
            <a:off x="4648320" y="2274840"/>
            <a:ext cx="403848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How much energy is present in food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uite a lot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gram of the sugar glucose (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when burned in the presence of oxygen, releases 3,811 calories of heat energ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alorie is the amount of energy needed to raise the temperature of 1 gram of water 1 degree Celsi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j0202205"/>
          <p:cNvPicPr/>
          <p:nvPr/>
        </p:nvPicPr>
        <p:blipFill>
          <a:blip r:embed="rId1"/>
          <a:stretch/>
        </p:blipFill>
        <p:spPr>
          <a:xfrm>
            <a:off x="4838760" y="2637000"/>
            <a:ext cx="365760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is cellular respiration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ellular respiration is the process that releases energy by breaking down glucose and other food molecules in the presence of oxyge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698040" y="4495680"/>
            <a:ext cx="2415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+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3352680" y="48006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4101480" y="4495680"/>
            <a:ext cx="376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+ 6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 + 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236160" y="5181480"/>
            <a:ext cx="30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xygen + gluc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3276720" y="54100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3645000" y="510552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rbon dioxide + water + 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Where does cellular respiration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take place?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beginning pathway of cellular respiration,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lycolysi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takes place in the cell cytoplas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two remaining pathways—th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rebs Cycl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lectr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ranspor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—take place inside the mitochondria of the cell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mito-em1"/>
          <p:cNvPicPr/>
          <p:nvPr/>
        </p:nvPicPr>
        <p:blipFill>
          <a:blip r:embed="rId1"/>
          <a:stretch/>
        </p:blipFill>
        <p:spPr>
          <a:xfrm>
            <a:off x="5000760" y="2438280"/>
            <a:ext cx="3333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happens if oxyge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s not availabl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lycolysi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then followed by a different pathwa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mbined process of this pathway and glycolysis is calle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erment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erment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releases energy from food molecules by producing ATP in the absence of oxyg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7" descr="j0386411"/>
          <p:cNvPicPr/>
          <p:nvPr/>
        </p:nvPicPr>
        <p:blipFill>
          <a:blip r:embed="rId1"/>
          <a:stretch/>
        </p:blipFill>
        <p:spPr>
          <a:xfrm>
            <a:off x="4838760" y="2374920"/>
            <a:ext cx="36576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lementary proces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otosynthesis is an important part of the carbon cyc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ocesses of photosynthesis and cellular respiration are complementary processes, meaning they work together to benefit living organism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5" descr="picture of carbon cycle"/>
          <p:cNvPicPr/>
          <p:nvPr/>
        </p:nvPicPr>
        <p:blipFill>
          <a:blip r:embed="rId1"/>
          <a:stretch/>
        </p:blipFill>
        <p:spPr>
          <a:xfrm>
            <a:off x="4572000" y="2209680"/>
            <a:ext cx="383868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lants and animals contribute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utotrophs, such as plants, produce glucose using the carbon in carbon dioxid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th autotrophs and heterotrophs, such as grasshoppers that eat plants, use those carbohydrates in cellular respir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iration, in turn, produces carbon dioxid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hotosynthesis equ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209760"/>
                <a:tab algn="l" pos="434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209760"/>
                <a:tab algn="l" pos="434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6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6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209760"/>
                <a:tab algn="l" pos="434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209760"/>
                <a:tab algn="l" pos="4348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otosynthesis combines water, carbon dioxide and sunlight to produce glucose and oxygen, converting light energy into chemical energ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AutoShape 4"/>
          <p:cNvSpPr/>
          <p:nvPr/>
        </p:nvSpPr>
        <p:spPr>
          <a:xfrm flipV="1">
            <a:off x="3733920" y="228600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spiration equ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6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6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 + Ener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iration breaks down glucose and other food molecules in the presence of oxyg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AutoShape 4"/>
          <p:cNvSpPr/>
          <p:nvPr/>
        </p:nvSpPr>
        <p:spPr>
          <a:xfrm flipV="1">
            <a:off x="3352680" y="228600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nergy renew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ergy captured from sunlight by photosynthetic organisms is used and released in the cellular respiration of living thing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energy that living things use, must continually be renewed through photosynthesi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7" descr="bd04959_"/>
          <p:cNvPicPr/>
          <p:nvPr/>
        </p:nvPicPr>
        <p:blipFill>
          <a:blip r:embed="rId1"/>
          <a:stretch/>
        </p:blipFill>
        <p:spPr>
          <a:xfrm>
            <a:off x="5106960" y="2209680"/>
            <a:ext cx="311940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ere does photosynthesis occur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plants and other photosynthetic eukaryotes, photosynthesis takes place inside chloroplast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hloroplasts contain saclike membranes called thylakoi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ylakoids are arranged in stacks known as gran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javaphotosynthesisfigure1[1]"/>
          <p:cNvPicPr/>
          <p:nvPr/>
        </p:nvPicPr>
        <p:blipFill>
          <a:blip r:embed="rId1"/>
          <a:stretch/>
        </p:blipFill>
        <p:spPr>
          <a:xfrm>
            <a:off x="5105520" y="1981080"/>
            <a:ext cx="342720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is the visible spectrum of light and why is it important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visible spectrum of light is the set of varying wavelengths of light that are visible to our eyes as different colo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nlight is a mixture of different wavelengths of light, even though it appears as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ite ligh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o your ey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visible spectru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Picture 4" descr="emspectrum[3]"/>
          <p:cNvPicPr/>
          <p:nvPr/>
        </p:nvPicPr>
        <p:blipFill>
          <a:blip r:embed="rId1"/>
          <a:stretch/>
        </p:blipFill>
        <p:spPr>
          <a:xfrm>
            <a:off x="1066680" y="1371600"/>
            <a:ext cx="685656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00:45:23Z</dcterms:created>
  <dc:creator>Karen Smiddy</dc:creator>
  <dc:description/>
  <dc:language>en-US</dc:language>
  <cp:lastModifiedBy>Shelley Hatch</cp:lastModifiedBy>
  <dcterms:modified xsi:type="dcterms:W3CDTF">2012-11-06T04:20:02Z</dcterms:modified>
  <cp:revision>11</cp:revision>
  <dc:subject/>
  <dc:title>Cellular Respiration</dc:title>
</cp:coreProperties>
</file>